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92C-F628-4158-A035-E92C1AC1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257-CA13-43AD-B462-08C53EA7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702-23E9-4E93-A2E7-FCC1275D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9AF-ACAF-4051-BDB7-592EC613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E17C-AC8A-4095-906B-1F25CF51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1525-8F8C-4464-9165-2E032FF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2F48-46A3-4D52-A45A-9FBED90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3BEE-FCDF-423C-9D2C-82759ACB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63C-E767-44E9-8B9D-8D016322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BDE5-B245-4361-8E03-C7509FF7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F96F-BC39-4CBD-9920-5B13D68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EAF-D9DD-416B-85BB-B02D1C4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7C86-3452-43CA-993E-A59C366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54E8-72CE-4C32-8B86-58E2E3C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85AF-CB3F-43EB-843A-0C21086F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33C-C8C7-49B7-8B0C-5503D52A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BBC-4090-4717-B1C1-7F72023A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53D-92C1-4454-9A6E-EEA87513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01B-E998-4B12-8751-AA3A212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E20-02CA-43A4-86DC-519E260C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D40-4897-4CBC-9E73-521F803D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BE9-FFB8-4786-BE9A-2CCCDB7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A44-12A3-46BC-A720-7FB5ED0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3A8-3796-447D-A213-578D676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0F2-DD91-46D9-81BB-A4BF08E31B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F60-8EB4-4354-AF77-C7A575F47E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ОЦИЈАЛНИ МАРКЕТИНГ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оцијални маркетинг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#1 Деф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Примена техника комерцијалног маркетинга за анализу, планирање, примену и евалуацију програма креираних да утичу на понашање циљане популације које ће допринети њиховом бољуитку и бољитку целог друш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#2 Деф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Коришћење начела и техника маркетинга како би се утицало на циљану популацију да добровољно прихвати, одбаци, промени или напусти понашање за добробит појединца, заједнице или друштва у цел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звој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5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D. Wibe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авио питање “Зашто се братство и рационално размишљање не би могли продавати као сапун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7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Први пут је употребљен термини “социјални маркетинг” у научном ра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цијални маркетинг: приступ планираној социјалној 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(Kotler &amp; Zaltm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89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Издата прва књиг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цијални маркетинг: стратегија за мењање понашања друш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(Kotler &amp; Rober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Одржана прва конференција у Енгле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Истраживање понашања потрошача / Анализа окру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римена сегментације и тарге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ефинисање циљева и за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ришћење 4 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Произ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Дистрибу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Комуник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Евалу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905120" y="1828800"/>
            <a:ext cx="48765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одел социјалног благос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590920" y="3048120"/>
            <a:ext cx="342900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оцијални марке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666880" y="4952880"/>
            <a:ext cx="342900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оцијалне инов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7"/>
          <p:cNvSpPr/>
          <p:nvPr/>
        </p:nvSpPr>
        <p:spPr>
          <a:xfrm>
            <a:off x="4038480" y="2514600"/>
            <a:ext cx="60984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8"/>
          <p:cNvSpPr/>
          <p:nvPr/>
        </p:nvSpPr>
        <p:spPr>
          <a:xfrm>
            <a:off x="4114800" y="4419720"/>
            <a:ext cx="60948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9"/>
          <p:cNvSpPr/>
          <p:nvPr/>
        </p:nvSpPr>
        <p:spPr>
          <a:xfrm>
            <a:off x="228600" y="3429000"/>
            <a:ext cx="8763120" cy="12193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10"/>
          <p:cNvSpPr/>
          <p:nvPr/>
        </p:nvSpPr>
        <p:spPr>
          <a:xfrm>
            <a:off x="228600" y="5257800"/>
            <a:ext cx="8763120" cy="12193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04920" y="3809880"/>
            <a:ext cx="28954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оцијална сегмен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019920" y="3809880"/>
            <a:ext cx="236196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оцијални медиј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Комуникациони прог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304920" y="5638680"/>
            <a:ext cx="28954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ржавне институ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276720" y="5638680"/>
            <a:ext cx="26668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руштвене/социјалне гр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095880" y="5638680"/>
            <a:ext cx="228600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рме / Н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гративни модел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2286000" y="1905120"/>
            <a:ext cx="4191120" cy="4038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2743200" y="2362320"/>
            <a:ext cx="3276720" cy="3200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3124080" y="2819520"/>
            <a:ext cx="2514600" cy="23619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3581280" y="3276720"/>
            <a:ext cx="1676520" cy="152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6413760" y="19810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енефит за ја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23"/>
          <p:cNvCxnSpPr/>
          <p:nvPr/>
        </p:nvCxnSpPr>
        <p:spPr>
          <a:xfrm flipV="1">
            <a:off x="4419360" y="2361960"/>
            <a:ext cx="19818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25"/>
          <p:cNvSpPr/>
          <p:nvPr/>
        </p:nvSpPr>
        <p:spPr>
          <a:xfrm>
            <a:off x="242280" y="1600200"/>
            <a:ext cx="22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Жељено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етермина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секве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26"/>
          <p:cNvCxnSpPr/>
          <p:nvPr/>
        </p:nvCxnSpPr>
        <p:spPr>
          <a:xfrm flipH="1" flipV="1">
            <a:off x="2057040" y="2285280"/>
            <a:ext cx="14486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8"/>
          <p:cNvSpPr/>
          <p:nvPr/>
        </p:nvSpPr>
        <p:spPr>
          <a:xfrm>
            <a:off x="167760" y="5181480"/>
            <a:ext cx="289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аркетинг м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изајн и карактерис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ошк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иступ и могућ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муникације и иску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29"/>
          <p:cNvCxnSpPr/>
          <p:nvPr/>
        </p:nvCxnSpPr>
        <p:spPr>
          <a:xfrm flipH="1">
            <a:off x="2133000" y="4647960"/>
            <a:ext cx="533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TextBox 31"/>
          <p:cNvSpPr/>
          <p:nvPr/>
        </p:nvSpPr>
        <p:spPr>
          <a:xfrm>
            <a:off x="6491520" y="4952880"/>
            <a:ext cx="244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уштина: понашањ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извод и ус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р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леват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зиционир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32"/>
          <p:cNvCxnSpPr/>
          <p:nvPr/>
        </p:nvCxnSpPr>
        <p:spPr>
          <a:xfrm>
            <a:off x="5791320" y="4267080"/>
            <a:ext cx="1296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бласти примене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моци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ревенција по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Заштита животне око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обилизација зајед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е и алати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В рекл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В еми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Фил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Музички спо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Интернет стра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-line </a:t>
            </a: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глаш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ac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nsta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е и алати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w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nap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Linke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oznate li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ovčane na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11T05:33:27Z</dcterms:modified>
  <cp:revision>184</cp:revision>
  <dc:subject/>
  <dc:title>Soft and Hard Skills Development: A Current Situation in Serbian Companies</dc:title>
</cp:coreProperties>
</file>